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820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990720"/>
            <a:ext cx="776772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6720" y="6237360"/>
            <a:ext cx="167652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ne 11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133720" y="6248520"/>
            <a:ext cx="50292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LF International Technical Conferece, Yokohama, Jap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15200" y="6248520"/>
            <a:ext cx="11430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fld id="{2E695F34-D355-45A2-9309-3752ABF42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4978440" cy="73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4440" indent="-3344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800" indent="-278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2120" y="2438280"/>
            <a:ext cx="777240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the Kernel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Performanc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KF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6200" y="5221440"/>
            <a:ext cx="83980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im B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ony Electronics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usag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ile kernel with KFI ena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ot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figure K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vi kficon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ym2addr kficonf System.map &gt;kficonf.addr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at kficonf.addrmap &gt;/proc/k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me the tr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cho “prime” &gt;/proc/k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 trigger fires, Trace is col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op trigger fires, or user stops trace, or buffer is f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echo “stop” &gt;/proc/k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 trace from kern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ad trace from kernel, and write it to a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at /proc/kfi_trace &gt;/tmp/trace.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solve addresses on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nux/scripts/addr2sym &lt;trace.log -m System.map &gt;trace.l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ze t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ok at log directly for individual call events and function d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‘kd’ for aggregate function counts and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‘kd -c’ to show ascii call grap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kernel execution pa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timing of kernel rout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problem areas – routines with long exe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Code Pa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 kernel source is very large, and code paths are often very difficult to follow in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5486400"/>
            <a:ext cx="731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FI can show “gory details” and the real 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3048120"/>
          <a:ext cx="7238880" cy="195552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etimes can’t tell if code is compiled in or no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mp tables and calls through function poin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ual function executed determined at runti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emption points and interrup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se unexpected execution 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of hard-to-follow routin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rial8250_init (extrac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767720" cy="388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rial8250_i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uart_register_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serial8250_register_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|  uart_add_one_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|  |  uart_configure_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|  |  serial8250_config_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|  |  |  serial8250_request_std_re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|  |  tty_register_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|  |  register_cons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|  |  |  serial8250_console_se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|  |  |  |  uart_set_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|  |  |  |  |  serial8250_set_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|  |  |  |  |  |  uart_get_baud_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2286000"/>
            <a:ext cx="3353040" cy="1523880"/>
          </a:xfrm>
          <a:prstGeom prst="wedgeRectCallout">
            <a:avLst>
              <a:gd name="adj1" fmla="val -83523"/>
              <a:gd name="adj2" fmla="val 2416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cing back and forth between serial_core code and driver code.  Difficult to follow in source due to jumps through call t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KD to answer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773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functions are call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long do the functions ta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times are the functions call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“problem” functions (where most time is spent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1 – Find delays in boot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tup log (unresolv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tup log (with symbols resolv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ies of the data using ‘kd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otup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ger start entry start_ker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ger stop entry to_user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er mintime 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er maxtime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er n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4495680"/>
            <a:ext cx="3352680" cy="1067040"/>
          </a:xfrm>
          <a:prstGeom prst="wedgeRectCallout">
            <a:avLst>
              <a:gd name="adj1" fmla="val -67898"/>
              <a:gd name="adj2" fmla="val -10610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keep functions lasting 500 microseconds or lo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liminate shorter 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2438280"/>
            <a:ext cx="2209680" cy="1524240"/>
          </a:xfrm>
          <a:prstGeom prst="wedgeRectCallout">
            <a:avLst>
              <a:gd name="adj1" fmla="val -77157"/>
              <a:gd name="adj2" fmla="val -1051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trace on entry to kernel, and stop just before entering user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ec of /sbin/in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6736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otup Log (unresolv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7767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ernel Instrumentation Run ID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ging started at 0 usec by entry to function 0xc000877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ging stopped at 13199877 usec by exit from function 0xc00240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lter Coun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ecution time filter count = 1555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otal entries filtered = 1555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tries not found = 39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ber of entries after filters = 146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try    Delta     PID        Function                        Ca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 -------- -------- ----------------                 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   -1       0  0xc000877c                       0x100080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  958       0  0xc000ddd0                       0xc00088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  948       0  0xc000fe14                       0xc000de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  938       0  0xc000fd20                       0xc000fe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      919       0  0xc0044c9c                       0xc000fdd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2209680"/>
            <a:ext cx="3962520" cy="762120"/>
          </a:xfrm>
          <a:prstGeom prst="wedgeRectCallout">
            <a:avLst>
              <a:gd name="adj1" fmla="val -97837"/>
              <a:gd name="adj2" fmla="val -6104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imes are in microseco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 lasted 13 sec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3048120"/>
            <a:ext cx="3352680" cy="914400"/>
          </a:xfrm>
          <a:prstGeom prst="wedgeRectCallout">
            <a:avLst>
              <a:gd name="adj1" fmla="val -84375"/>
              <a:gd name="adj2" fmla="val -3836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number of short functions eliminated from trace (&gt;9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5638680"/>
            <a:ext cx="3352680" cy="762120"/>
          </a:xfrm>
          <a:prstGeom prst="wedgeRectCallout">
            <a:avLst>
              <a:gd name="adj1" fmla="val -86648"/>
              <a:gd name="adj2" fmla="val -14604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addresses are rep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KF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744640"/>
            <a:ext cx="7770960" cy="411336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0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FI = Kernel Function Instr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FI uses gcc “–finstrument-functions” to insert callout code for every function entry and ex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for trace collection, inclu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ing, filtering, triggers for starting and sto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tool for trace display an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767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otup Log (resolv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67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ernel Instrumentation Run ID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ging started at 13762527 usec by entry to function start_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ging stopped at 23905279 usec by log f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lter Coun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ecution time filter count = 7545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otal entries filtered = 7545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tries not found = 72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ber of entries after filters = 2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try    Delta     PID        Function                        Ca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 -------- -------- ----------------                 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       -1       0  start_kernel                     skpinv+0x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92    25317       0  setup_arch                       start_kernel+0x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00     1390       0  do_init_bootmem                  setup_arch+0x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37     1352       0  free_bootmem                     do_init_bootmem+0x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39     1348       0  free_bootmem_core                free_bootmem+0x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1905120"/>
            <a:ext cx="3352680" cy="761760"/>
          </a:xfrm>
          <a:prstGeom prst="wedgeRectCallout">
            <a:avLst>
              <a:gd name="adj1" fmla="val -37782"/>
              <a:gd name="adj2" fmla="val 28145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names and callpoints are 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5638680"/>
            <a:ext cx="3352680" cy="990720"/>
          </a:xfrm>
          <a:prstGeom prst="wedgeRectCallout">
            <a:avLst>
              <a:gd name="adj1" fmla="val -56393"/>
              <a:gd name="adj2" fmla="val -13589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 indicates function where the exit was not seen during the tr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767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otup functions sorted by du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67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 kd -n 15 ebony-start.l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unction                            Count Time     Average  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------------------- ----- -------- -------- 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r_interrupt                      3252  7898788     2428  78987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_softirq                           2870  3804507     1325    140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do_softirq                         2863  3790472     1323  3790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lease_console_sem                    36  1817877    50496    538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l_console_drivers                   36  1764009    49000      2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call_console_drivers                  44  1763745    40085      1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call_console_drivers                 44  1763601    40081      1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rial8250_console_write               44  1763450    40078  17634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reate_dir                            402  1579736     3929    808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ty_register_device                   339  1219851     3598    153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ass_device_register                 290  1182139     4076    582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ass_simple_device_add               327  1179817     3608   -970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ass_device_add                      268  1085643     4050    649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ntk                                 35  1082977    30942      1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printk                                35  1082855    30938     43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304920"/>
            <a:ext cx="3276720" cy="380880"/>
          </a:xfrm>
          <a:prstGeom prst="wedgeRectCallout">
            <a:avLst>
              <a:gd name="adj1" fmla="val -71222"/>
              <a:gd name="adj2" fmla="val 13791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“top” 15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990720"/>
            <a:ext cx="4419720" cy="380880"/>
          </a:xfrm>
          <a:prstGeom prst="wedgeRectCallout">
            <a:avLst>
              <a:gd name="adj1" fmla="val -33981"/>
              <a:gd name="adj2" fmla="val 18083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time in timer_interrupt (8 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10280" y="4343400"/>
            <a:ext cx="2133720" cy="990720"/>
          </a:xfrm>
          <a:prstGeom prst="wedgeRectCallout">
            <a:avLst>
              <a:gd name="adj1" fmla="val -130879"/>
              <a:gd name="adj2" fmla="val -2424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time processing softirqs (4 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767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otup functions sorted by du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67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 kd -n 15 ebony-start.l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unction                            Count Time     Average  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------------------- ----- -------- -------- 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r_interrupt                      3252  7898788     2428  78987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_softirq                           2870  3804507     1325    140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do_softirq                         2863  3790472     1323  3790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lease_console_sem                    36  1817877    50496    538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l_console_drivers                   36  1764009    49000      2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call_console_drivers                  44  1763745    40085      1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call_console_drivers                 44  1763601    40081      1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rial8250_console_write               44  1763450    40078  17634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reate_dir                            402  1579736     3929    808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ty_register_device                   339  1219851     3598    153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ass_device_register                 290  1182139     4076    582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ass_simple_device_add               327  1179817     3608   -970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ass_device_add                      268  1085643     4050    649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ntk                                 35  1082977    30942      1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printk                                35  1082855    30938     43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228600"/>
            <a:ext cx="4114800" cy="685800"/>
          </a:xfrm>
          <a:prstGeom prst="wedgeRectCallout">
            <a:avLst>
              <a:gd name="adj1" fmla="val -13657"/>
              <a:gd name="adj2" fmla="val 30879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nested – KFI shows wall-time duration of 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5943600"/>
            <a:ext cx="4114800" cy="914400"/>
          </a:xfrm>
          <a:prstGeom prst="wedgeRectCallout">
            <a:avLst>
              <a:gd name="adj1" fmla="val 1157"/>
              <a:gd name="adj2" fmla="val -25712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local time indicates bottom of call chain – where time was sp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143000"/>
            <a:ext cx="4114800" cy="914400"/>
          </a:xfrm>
          <a:prstGeom prst="wedgeRectCallout">
            <a:avLst>
              <a:gd name="adj1" fmla="val 43750"/>
              <a:gd name="adj2" fmla="val 1824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detect nesting when functions have similar times and call c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767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otup functions sorted by du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67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 kd -n 15 ebony-start.l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unction                            Count Time     Average  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------------------- ----- -------- -------- 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r_interrupt                      3252  7898788     2428  78987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_softirq                           2870  3804507     1325    140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do_softirq                         2863  3790472     1323  3790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lease_console_sem                    36  1817877    50496    538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l_console_drivers                   36  1764009    49000      2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call_console_drivers                  44  1763745    40085      1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call_console_drivers                 44  1763601    40081      1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rial8250_console_write               44  1763450    40078  17634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reate_dir                            402  1579736     3929    808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ty_register_device                   339  1219851     3598    153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ass_device_register                 290  1182139     4076    582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ass_simple_device_add               327  1179817     3608   -970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ass_device_add                      268  1085643     4050    649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ntk                                 35  1082977    30942      1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printk                                35  1082855    30938     43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5410080"/>
            <a:ext cx="4495680" cy="1067040"/>
          </a:xfrm>
          <a:prstGeom prst="wedgeRectCallout">
            <a:avLst>
              <a:gd name="adj1" fmla="val 46398"/>
              <a:gd name="adj2" fmla="val -18288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there were sub-routines called by serial8260_console_write, but they were eliminated by fil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7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ctions Sorted by Local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767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 kd -n 15 -s l ebony-start.l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unction                            Count Time     Average  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------------------- ----- -------- -------- 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r_interrupt                      3252  7898788     2428  78987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do_softirq                         2863  3790472     1323  37904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rial8250_console_write               44  1763450    40078  17634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switch_to                            26   364138    14005   364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fs_lookup                           57   187251     3285   1872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might_sleep                          13   107389     8260   1073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reate_dir                            402  1579736     3929    808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mem_cache_alloc                       51   179071     3511    704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eempt_schedule                       21    66924     3186    663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ass_device_add                      268  1085643     4050    649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ass_device_register                 290  1182139     4076    582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object_add                           213   873241     4099    56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fs_make_dirent                      29   105991     3654    556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lease_console_sem                    36  1817877    50496    538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ode_init_once                         4    47227    11806    472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914400"/>
            <a:ext cx="4114800" cy="380880"/>
          </a:xfrm>
          <a:prstGeom prst="wedgeRectCallout">
            <a:avLst>
              <a:gd name="adj1" fmla="val -98379"/>
              <a:gd name="adj2" fmla="val -1208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 by local time with “-s 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5334120"/>
            <a:ext cx="4114800" cy="1523880"/>
          </a:xfrm>
          <a:prstGeom prst="wedgeRectCallout">
            <a:avLst>
              <a:gd name="adj1" fmla="val 91435"/>
              <a:gd name="adj2" fmla="val -21302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s routines where time was most spent, and either no sub-functions were called, or the sub-functions were not included in the tr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7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ctions showing max subrout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$ kd -n 15 -f Fctlmn ebony-start.l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Function                            Count Time     Local    Max-sub                             Ms c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---------------------------------- ----- -------- -------- ----------------------------------- ------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timer_interrupt                      3252  7898788  7898788                update_process_times       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o_softirq                           2870  3804507    14035                        __do_softirq     286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__do_softirq                         2863  3790472  3790472                   sub_preempt_count     288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release_console_sem                    36  1817877    53868                call_console_drivers       3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all_console_drivers                   36  1764009      264               _call_console_drivers       4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_call_console_drivers                  44  1763745      144              __call_console_drivers       4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__call_console_drivers                 44  1763601      151            serial8250_console_write       4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erial8250_console_write               44  1763450  1763450                                            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reate_dir                            402  1579736    80801                    sysfs_create_dir      19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tty_register_device                   339  1219851    15384             class_simple_device_add      32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lass_device_register                 290  1182139    58236                    class_device_add      26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lass_simple_device_add               327  1179817   -97058               class_device_register      29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lass_device_add                      268  1085643    64904                         kobject_add      20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rintk                                 35  1082977      122                             vprintk       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vprintk                                35  1082855     4385                 release_console_sem       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28600"/>
            <a:ext cx="5486400" cy="685800"/>
          </a:xfrm>
          <a:prstGeom prst="wedgeRectCallout">
            <a:avLst>
              <a:gd name="adj1" fmla="val -64759"/>
              <a:gd name="adj2" fmla="val 627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fields to show. ‘m’=max subroutine (child sub-routine where most time was sp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4714200">
            <a:off x="1751760" y="2819520"/>
            <a:ext cx="26676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00" y="10800"/>
                </a:moveTo>
                <a:arcTo wR="-5500" hR="-5500" stAng="-10800000" swAng="-11968065"/>
                <a:lnTo>
                  <a:pt x="617" y="14399"/>
                </a:lnTo>
                <a:arcTo wR="10800" hR="10800" stAng="9631935" swAng="11968065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54864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4714200">
            <a:off x="761400" y="5486400"/>
            <a:ext cx="26676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00" y="10800"/>
                </a:moveTo>
                <a:arcTo wR="-5500" hR="-5500" stAng="-10800000" swAng="-11968065"/>
                <a:lnTo>
                  <a:pt x="617" y="14399"/>
                </a:lnTo>
                <a:arcTo wR="10800" hR="10800" stAng="9631935" swAng="11968065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579132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-1105200" y="4076640"/>
            <a:ext cx="2971800" cy="76212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20043" y="8280"/>
                </a:moveTo>
                <a:arcTo wR="-9580" hR="-9580" stAng="-915025" swAng="-8474594"/>
                <a:lnTo>
                  <a:pt x="20704" y="15108"/>
                </a:lnTo>
                <a:arcTo wR="10800" hR="10800" stAng="1410381" swAng="8474594"/>
                <a:lnTo>
                  <a:pt x="-2225" y="14351"/>
                </a:lnTo>
                <a:lnTo>
                  <a:pt x="98" y="10287"/>
                </a:lnTo>
                <a:lnTo>
                  <a:pt x="4162" y="1261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4714200">
            <a:off x="1828080" y="3048120"/>
            <a:ext cx="26676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00" y="10800"/>
                </a:moveTo>
                <a:arcTo wR="-5500" hR="-5500" stAng="-10800000" swAng="-11968065"/>
                <a:lnTo>
                  <a:pt x="617" y="14399"/>
                </a:lnTo>
                <a:arcTo wR="10800" hR="10800" stAng="9631935" swAng="11968065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4714200">
            <a:off x="1904400" y="3352680"/>
            <a:ext cx="26676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00" y="10800"/>
                </a:moveTo>
                <a:arcTo wR="-5500" hR="-5500" stAng="-10800000" swAng="-11968065"/>
                <a:lnTo>
                  <a:pt x="617" y="14399"/>
                </a:lnTo>
                <a:arcTo wR="10800" hR="10800" stAng="9631935" swAng="11968065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4714200">
            <a:off x="2056680" y="3581280"/>
            <a:ext cx="26676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00" y="10800"/>
                </a:moveTo>
                <a:arcTo wR="-5500" hR="-5500" stAng="-10800000" swAng="-11968065"/>
                <a:lnTo>
                  <a:pt x="617" y="14399"/>
                </a:lnTo>
                <a:arcTo wR="10800" hR="10800" stAng="9631935" swAng="11968065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24320" y="3683160"/>
            <a:ext cx="870120" cy="425160"/>
          </a:xfrm>
          <a:prstGeom prst="donut">
            <a:avLst>
              <a:gd name="adj" fmla="val 84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08960" y="3740040"/>
            <a:ext cx="482760" cy="317520"/>
          </a:xfrm>
          <a:prstGeom prst="donut">
            <a:avLst>
              <a:gd name="adj" fmla="val 84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7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-system init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76772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 kd ebony-start.lst | grep "_init[^a-z_]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sole_init                            1   740406   740406      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rial8250_console_init                 1   740381   740381       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em_init                                1   145839   145839     51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fs_caches_init                         1    75011    75011      3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nt_init                                1    74025    74025      3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b_init                                1    46636    46636     12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b_hub_init                            1    44810    44810      3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link_proto_init                      1    44141    44141      5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cibios_init                            1    36910    36910      4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object_init                           11    35315     3210     80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ref_init                               1    16821    16821    16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ging_init                             1    14019    14019     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ree_area_init                          1    14016    14016    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ctl_init                             1    13017    13017       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cp_driver_init                         1    12577    12577     3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_sysfs_init                        1     6410     6410      4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mem_cache_init                         1     5084     5084     50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 – Tracing do_f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 data using ‘kd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graph using ‘kd –c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lace mode vs. non-interlace 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ce Configuration for do_f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gger start entry do_f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gger stop exit do_f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er mintime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er maxtime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er n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5029200"/>
            <a:ext cx="2666880" cy="380880"/>
          </a:xfrm>
          <a:prstGeom prst="wedgeRectCallout">
            <a:avLst>
              <a:gd name="adj1" fmla="val -99166"/>
              <a:gd name="adj2" fmla="val -20208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filtering b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200400"/>
            <a:ext cx="3352680" cy="609480"/>
          </a:xfrm>
          <a:prstGeom prst="wedgeRectCallout">
            <a:avLst>
              <a:gd name="adj1" fmla="val -72111"/>
              <a:gd name="adj2" fmla="val -1067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 a single routine from entry to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_fork Functions Sorted by Du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67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 kd -n 15  ebony-do_fork.l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unction                            Count Time     Average  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------------------- ----- -------- -------- 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_fork                                 1    11100    11100       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eempt_schedule                       26     9086      349       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ake_up_new_task                        1     9079     9079      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chedule                                2     9017     4508       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switch_to                             2     8961     4480     89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nfs_revalidate_inode                  3     5827     1942       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nk_path_walk                          3     5788     1929      -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fs_proc_getattr                        3     5687     1895      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pc_call_sync                           3     5666     1888       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pc_execute                             3     5097     1699      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rpc_execute                           3     5078     1692      1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pen_exec                               2     4250     2125      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th_lookup                             2     3929     1964      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l_transmit                           3     3831     1277       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_lookup                               5     3739      747      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FI vs. Profi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ROFILE takes samples of kernel (and application) execution location ove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esn’t give complete trace co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ood for statistical analysis of execution p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FI gives exact trace of execution for a single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asures all executed rout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ood for analyzing special cases (e.g. boot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7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_fork Functions Sorted by Local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767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 kd -n 15 -s l ebony-do_fork.l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unction                            Count Time     Average  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------------------- ----- -------- -------- 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switch_to                             2     8961     4480     89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r_interrupt                        10     1537      153     15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v_queue_xmit                          3     1474      491     14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do_softirq                           12     1092       91     10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prt_transmit                           3     3510     1170      5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b_preempt_count                     237      449        1      4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mem_cache_alloc                       35      433       12      3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_IRQ                                  1      369      369      3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igh_resolve_output                    3     1849      616      3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py_mm                                 1     1702     1702      3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prt_release                            3      506      168      2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ck_kernel                            39      228        5      2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py_user_page                          6      216       36      2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py_pte_range                         17      475       27      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p_finish_output                        3     2050      683      1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228600"/>
            <a:ext cx="3353040" cy="914400"/>
          </a:xfrm>
          <a:prstGeom prst="wedgeRectCallout">
            <a:avLst>
              <a:gd name="adj1" fmla="val 39203"/>
              <a:gd name="adj2" fmla="val 1368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y caused by context switching – should ignore __switch_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7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ctions Sorted by Call Cou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767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 kd -n 15 -s c ebony-do_fork.l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unction                            Count Time     Average  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------------------- ----- -------- -------- 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b_preempt_count                     237      449        1      4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might_sleep                          78      149        1      1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lock_kernel                          39      114        2      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ck_kernel                            39      228        5      2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mem_cache_alloc                       35      433       12      3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mod_page_state                       28       56        2       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eempt_schedule                       26     9086      349       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te_alloc_map                          23      212        9       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fs_attribute_timeout                  22      163        7      1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on_vma_link                          17       82        4      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__vma_link_rb                          17      225       13     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py_pud_range                         17      611       35       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d_resched_lock                      17       33        1      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py_page_range                        17      681       40       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py_pmd_range                         17      545       32       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7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race for do_f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7767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$kd -c -l do_fork.l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try      Duration   Local     Pid   Tr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--------- ---------- ---------- ----- -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      11100         57    19 do_f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6          5          5    19 |  alloc_pidm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4       1959         70    19 |  copy_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7         80         16    19 |  |  dup_task_stru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9          6          4    19 |  |  |  prepare_to_cop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1          2          2    19 |  |  |  |  sub_preempt_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8          6          4    19 |  |  |  kmem_cache_all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0          2          2    19 |  |  |  |  __might_sle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7         52          4    19 |  |  |  __get_free_p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9         48         14    19 |  |  |  |  __alloc_p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1          2          2    19 |  |  |  |  |  __might_sle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6          2          2    19 |  |  |  |  |  zone_watermark_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1         29         14    19 |  |  |  |  |  buffered_rmque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4          3          3    19 |  |  |  |  |  |  __rmque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9          2          2    19 |  |  |  |  |  |  sub_preempt_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63          2          2    19 |  |  |  |  |  |  bad_r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68          2          2    19 |  |  |  |  |  |  __mod_page_st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72          6          4    19 |  |  |  |  |  |  prep_new_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74          2          2    19 |  |  |  |  |  |  |  set_page_ref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3          1          1    19 |  |  |  |  |  zone_stati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2         17          6    19 |  |  do_posix_clock_monotonic_get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19920" y="2590920"/>
            <a:ext cx="3124080" cy="914400"/>
          </a:xfrm>
          <a:prstGeom prst="wedgeRectCallout">
            <a:avLst>
              <a:gd name="adj1" fmla="val -94513"/>
              <a:gd name="adj2" fmla="val 5087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different punctuation to show different threads of 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67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race for do_fork – with Interru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67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286          2          2    41 {  {  {  {  {  {  set_page_re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294          2          2    41 {  {  {  {  zone_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00        130        130    41 {  {  {  copy_user_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 %%%% start 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12        106        106    41 timer_inter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 %%%% end 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 ]]]] start 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83         29          4    41 do_softir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85         25         25    41 ]  __do_softir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 ]]]] end 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 **** start 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414          2          2    41 sub_preempt_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 **** end 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432          2          2    41 {  {  {  page_remove_r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436         16         16    41 {  {  {  update_mmu_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454          5          3    41 {  {  {  lru_cache_add_a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455          2          2    41 {  {  {  {  sub_preempt_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590920"/>
            <a:ext cx="3124080" cy="914400"/>
          </a:xfrm>
          <a:prstGeom prst="wedgeRectCallout">
            <a:avLst>
              <a:gd name="adj1" fmla="val -164430"/>
              <a:gd name="adj2" fmla="val -1493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different punctuation to show different threads of 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28600"/>
            <a:ext cx="3124080" cy="914400"/>
          </a:xfrm>
          <a:prstGeom prst="wedgeRectCallout">
            <a:avLst>
              <a:gd name="adj1" fmla="val 9907"/>
              <a:gd name="adj2" fmla="val 13941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lace” mode shows call graphs for interrupting code nested inside other grap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7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race for do_fork – with Thread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67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76       9079         30    19 |  wake_up_new_tas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78          3          3    19 |  |  task_rq_loc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84          2          2    19 |  |  effective_pri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90          1          1    19 |  |  sub_preempt_c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94       9043         25    19 |  |  preempt_schedu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96       9018         52    19 |  |  |  schedu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98          2          2    19 |  |  |  |  profile_h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02          2          2    19 |  |  |  |  sched_cloc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11       8962       8962    19 |  |  |  |  __switch_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15         11          4    41 schedule_tai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17          7          6    41 $  finish_task_swit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20          1          1    41 $  $  sub_preempt_c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33        173         11    41 do_page_faul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35          2          2    41 /  __might_slee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40          2          2    41 /  find_v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45        158         10    41 /  handle_mm_faul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47          2          2    41 /  /  __mod_page_st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3429000"/>
            <a:ext cx="2438280" cy="914400"/>
          </a:xfrm>
          <a:prstGeom prst="wedgeRectCallout">
            <a:avLst>
              <a:gd name="adj1" fmla="val -136652"/>
              <a:gd name="adj2" fmla="val 3142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punctuation shows different thread of 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7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race for do_fork – with Thread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67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76       9079         30    19 |  wake_up_new_tas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78          3          3    19 |  |  task_rq_loc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84          2          2    19 |  |  effective_pri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90          1          1    19 |  |  sub_preempt_c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94       9043         25    19 |  |  preempt_schedu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96       9018         52    19 |  |  |  schedu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998          2          2    19 |  |  |  |  profile_h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02          2          2    19 |  |  |  |  sched_cloc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11       8962       8962    19 |  |  |  |  __switch_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15         11          4    41 schedule_tai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17          7          6    41 $  finish_task_swit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20          1          1    41 $  $  sub_preempt_c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33        173         11    41 do_page_faul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35          2          2    41 /  __might_slee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40          2          2    41 /  find_v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45        158         10    41 /  handle_mm_faul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047          2          2    41 /  /  __mod_page_st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7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Trace for do_fork – another Thread 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67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160         16         16    41 /  /  /  update_mmu_cach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178          7          5    41 /  /  /  lru_cache_add_a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181          2          2    41 /  /  /  /  sub_preempt_c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187          6          4    41 /  /  /  page_add_anon_rma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189          2          2    41 /  /  /  /  __mod_page_st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196          2          2    41 /  /  /  sub_preempt_cou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211        267          8    41 do_page_faul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213          2          2    41 {  __might_slee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217          2          2    41 {  find_v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221        255          9    41 {  handle_mm_faul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223          2          2    41 {  {  __mod_page_st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227          2          2    41 {  {  pte_alloc_ma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231        242         24    41 {  {  do_wp_pa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233          2          2    41 {  {  {  can_share_swap_pa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237         10          6    41 {  {  {  unlock_pa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239          2          2    41 {  {  {  {  page_waitqueu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243          2          2    41 {  {  {  {  __wake_up_b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3 – Tracing serial8250_in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ation of call tr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 Configuration for serial8250_in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ger start entry serial8250_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ger stop exit serial8250_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er mintime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er maxtime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19920" y="2590920"/>
            <a:ext cx="3124080" cy="609480"/>
          </a:xfrm>
          <a:prstGeom prst="wedgeRectCallout">
            <a:avLst>
              <a:gd name="adj1" fmla="val -160722"/>
              <a:gd name="adj2" fmla="val 2242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could not finish routine because log filled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53341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767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8250_init Log (resolv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67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ernel Instrumentation Run ID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ging started at 1285942 usec by entry to function serial8250_i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ging stopped at 1796103 usec by log f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lter Coun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otal entries filtered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tries not found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ber of entries after filters = 2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try    Delta     PID        Function                        Ca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 -------- -------- ----------------                 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1       -1       1  serial8250_init                  do_initcalls+0x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4     2245       1  printk                           serial8250_init+0x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6     2214       1  vprintk                          printk+0x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9      123       1  vscnprintf                       vprintk+0x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2598840"/>
            <a:ext cx="3124080" cy="609480"/>
          </a:xfrm>
          <a:prstGeom prst="wedgeRectCallout">
            <a:avLst>
              <a:gd name="adj1" fmla="val -99847"/>
              <a:gd name="adj2" fmla="val -34088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could not finish routine because log filled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2593800"/>
            <a:ext cx="3124080" cy="609840"/>
          </a:xfrm>
          <a:prstGeom prst="wedgeRectCallout">
            <a:avLst>
              <a:gd name="adj1" fmla="val -96699"/>
              <a:gd name="adj2" fmla="val 6692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could not finish routine because log filled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FI vs. Event trac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nt tracer (e.g. LTT or L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sures small number of discreet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ch lower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od for long trace (even contino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ws interactions between threads and processes – e.g. state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refully chosen event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FI traces every kernel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gh overhead, but very high 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8250_init T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omap-serial_init.tr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are highligh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11 usec - ‘-1’ duration means exit was not seen during tr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bad, I expected routine to complete quickly.  Something else happened during i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4096 usec - interrupt occur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0 usec for hard portion, 192 usec for soft por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5702 usec - back to main thread (interrupt comple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8250_init Trace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10161 usec - call to create_d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10190 usec - another call to a different create_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careful of namespace (all functions are in trace namespace, even if they are stat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timing data for different routines may be combined, even if they are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e kd is somewhat stup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51580 usec - finally see some interaction with the serial 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takes more than 50 milliseconds just to do device driver setup unrelated to the serial 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8250_init Trace (cont.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81457 usec - here’s another much longer timer inter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milliseconds to perform interr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t a timer tick where more processing was performed (updating system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97724 usec - call to ‘call_console_drivers’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rintk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from wakeup via console semaph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97279 usec - serial8250_console_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ing to output all the data from the print log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8250_init Trace (cont.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le rest of trace is outputting printk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was pent up waiting for console to be initi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97719 usec - serial_out followed by 4 serial_i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pattern for outputting a single char is to write char and wait for buffer to 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usec per operation = 55 usec per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ling results in long delays.  Why isn’t buffering and interrupts being used 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With Timing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time” is calculated by subtracting wall time of children from wall time of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eful – filtering removes functions – local time can be inaccu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 problem with asynchronous rout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arning – system effectively ignores calls that don't return (e.g. schedule, switch_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ki p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tree.celinuxforum.org/CelfPubWiki/KernelFunctionInstr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tree.celinuxforum.org/CelfPutWiki/PatchArch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ing l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inux-dev@tree.celinuxforum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7720" y="2708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 Performance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FI measures function duration time by default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 log has entry time and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FI keeps a stack of entered functions which is searches on function 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 overhead is low, because function being exited is first item on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tion is wall time from entry to ex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take into account (subtract) interrupts and thread swi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for straightline code that does not block or get stuck on locks or semaph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FI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figure and start a trace from user-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figuration written to /proc/k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at kficonf &gt;/proc/k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ic config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figuration is compiled into kernel, and started automatically on 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figuration in kernel/kfistatic.con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ults are collected from /proc/kfi_trace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ig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, 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nction entry, function exit,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nction duration (mintime, max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rupt context (noints, onlyi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ecific function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ze of trace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g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ction Names vs. Address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in configuration fil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776916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use function name in kfistatic.co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ust use function address when writing config to /proc/kf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vide sym2addr to conv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sym2addr kficonf System.map &gt;kficonf.ad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itstream Vera Sans"/>
              </a:rPr>
              <a:t>cat kficonf.addr &gt;/proc/k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76772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ction Names vs. Address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in trace outpu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2437920"/>
            <a:ext cx="776772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tput from /proc/kfi_trace has 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convert to function names with addr2sy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itstream Vera Sans"/>
              </a:rPr>
              <a:t>linux/scripts/addr2sym kfi.log -m System.map &gt;kfi.l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im Bird</cp:lastModifiedBy>
  <dcterms:modified xsi:type="dcterms:W3CDTF">2005-06-16T21:01:19Z</dcterms:modified>
  <cp:revision>33</cp:revision>
  <dc:subject/>
  <dc:title>Slide 1</dc:title>
</cp:coreProperties>
</file>